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FB6-0064-475E-B70A-6837122A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1F7-254F-456C-AC30-DDEAE757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E2D-D0A3-405F-ADE6-E80F7A49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CDE-5ADA-4A0D-B6DF-8ED5A0AA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31F9-6929-4683-80B1-E346990C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EEB4-5A59-4519-8934-A9C2D327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5C8A-E936-43DA-B514-D174816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3FE5-5942-41F4-874E-C4C1FD2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A44-243D-43F9-BCAA-2AB2743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2C8F-8A7C-4B67-AF75-C3B2C5D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1E43-1AA9-4A77-842C-6C34085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687-7EA8-4E29-B2CC-90C99814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4C2-8363-4BB6-AD1A-E53650E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9477-021A-4291-8403-7B666A21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0CB-7B2E-4A95-9A04-220C8845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766-9E67-4CEC-955C-B04D06A5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A996-5673-4EE4-A9A2-C9019CC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F82-7046-45E7-A513-80ED28C6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6CE-800F-41E0-A210-B44EBBC2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963-6FF6-4D58-9086-BDAB985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EB3-70B5-47E9-8468-55E5E22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589-4CCC-4DBA-BE70-2C51086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2E2-3977-4DFF-AFE3-EEE920A7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BBC-5C4D-4524-820C-AB2227B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35D-F1D6-4D05-85AA-D36616764A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2B53-F295-4C7C-ABEC-4C2EBE42E8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Monday, December 6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 Work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 WS 5.1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uesday, December 7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Find the midpoint between points (0,3) and (-2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segment Theo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Lesson 5.4, problems 3-18, 21,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 </a:t>
            </a: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hursday, December 8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Describe and draw an angle bi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qualities of one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5.5, Problems 2, 6-11, 17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Unit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2-09T17:19:14Z</dcterms:modified>
  <cp:revision>81</cp:revision>
  <dc:subject/>
  <dc:title>Slide 1</dc:title>
</cp:coreProperties>
</file>